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9F9422-4E6B-4B8E-8CB9-1F803C61B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47680" indent="-247680">
              <a:spcBef>
                <a:spcPts val="451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c and biochemical, (ii) transcription, regulation and protein synthesis, and (iii) signal transduction.  Metabolic pathways enumerate the chemical reactions for biological functions such as energy metabolism and fatty acid synthesi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, regulation and protein synthesis pathways enumerate the processes of converting genetic information into gene product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 transduction pathways outline the cellular response to an environmental or regulatory stimulus via a cascade of post-translational modifications such as phosphory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We use BioPAX level 2 and level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actome and Biocy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upposed to be backward compat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SI- Proteomics Standards Initiative Molecular Inte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146-C47F-4D7A-BB43-74A7F150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D277-BE53-44C1-98F5-350E2FA0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2E1-7330-4D41-B33F-A2039B98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2953-FBB3-4F14-803B-EBD00918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080A-484D-420C-84CC-C5EC8226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BFD2-0EF8-4E8F-8774-5280986B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BF46-BA28-4CDB-9FFF-32182A42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7D58-5835-44AC-B4D7-370A437E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F62A-F1AF-4D5D-8C47-2799EE4A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CDD1-2DB3-4070-A7AA-02DB6F90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9243-1B41-4CF6-B371-3174FE67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D68-DFF5-4E54-A13F-BFF772C9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2971-CA4E-448D-8FEB-A95C576C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0514-807A-4748-8B8B-6CADB354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5ED2-6907-4B68-AEE2-B06668E6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50E9-3D59-4E77-8043-AF07E878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7330-0912-4573-A99D-DA71FC3C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5DE-4F35-4FE7-9BE0-DFC075F2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6BD-1687-4F7B-970C-55EA191A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78DD-378B-42E1-AF82-A00A17F1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E6E-31A2-4C8A-8FB6-397C658B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9D3C-B421-4414-BA5A-483D00C8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4E54-D69A-498D-9203-9F168336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FCC-9C91-4D84-BF0A-88B64418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DE39-405C-4FBC-9B15-2FC8A2F6C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862760" y="63360"/>
            <a:ext cx="1094040" cy="1197000"/>
            <a:chOff x="7862760" y="63360"/>
            <a:chExt cx="1094040" cy="1197000"/>
          </a:xfrm>
        </p:grpSpPr>
        <p:sp>
          <p:nvSpPr>
            <p:cNvPr id="7" name=""/>
            <p:cNvSpPr/>
            <p:nvPr/>
          </p:nvSpPr>
          <p:spPr>
            <a:xfrm>
              <a:off x="7862760" y="117360"/>
              <a:ext cx="1094040" cy="1143000"/>
            </a:xfrm>
            <a:prstGeom prst="can">
              <a:avLst>
                <a:gd name="adj" fmla="val 25000"/>
              </a:avLst>
            </a:prstGeom>
            <a:blipFill rotWithShape="0">
              <a:blip r:embed="rId2">
                <a:alphaModFix amt="80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080200" y="633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PK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"/>
            <p:cNvGrpSpPr/>
            <p:nvPr/>
          </p:nvGrpSpPr>
          <p:grpSpPr>
            <a:xfrm>
              <a:off x="7924680" y="457200"/>
              <a:ext cx="952560" cy="800280"/>
              <a:chOff x="7924680" y="457200"/>
              <a:chExt cx="952560" cy="800280"/>
            </a:xfrm>
          </p:grpSpPr>
          <p:sp>
            <p:nvSpPr>
              <p:cNvPr id="10" name=""/>
              <p:cNvSpPr/>
              <p:nvPr/>
            </p:nvSpPr>
            <p:spPr>
              <a:xfrm flipV="1">
                <a:off x="8153280" y="685080"/>
                <a:ext cx="533520" cy="53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924680" y="457200"/>
                <a:ext cx="343080" cy="343080"/>
              </a:xfrm>
              <a:prstGeom prst="ellipse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229600" y="914400"/>
                <a:ext cx="343080" cy="3430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229600" y="91440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534520" y="457200"/>
                <a:ext cx="342720" cy="3430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534520" y="457200"/>
                <a:ext cx="304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924680" y="45720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" name=""/>
          <p:cNvSpPr/>
          <p:nvPr/>
        </p:nvSpPr>
        <p:spPr>
          <a:xfrm>
            <a:off x="609480" y="1295280"/>
            <a:ext cx="51055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AC3F-1A7B-4792-9899-150940651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96080" y="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862760" y="63360"/>
            <a:ext cx="1094040" cy="1197000"/>
            <a:chOff x="7862760" y="63360"/>
            <a:chExt cx="1094040" cy="1197000"/>
          </a:xfrm>
        </p:grpSpPr>
        <p:sp>
          <p:nvSpPr>
            <p:cNvPr id="60" name=""/>
            <p:cNvSpPr/>
            <p:nvPr/>
          </p:nvSpPr>
          <p:spPr>
            <a:xfrm>
              <a:off x="7862760" y="117360"/>
              <a:ext cx="1094040" cy="1143000"/>
            </a:xfrm>
            <a:prstGeom prst="can">
              <a:avLst>
                <a:gd name="adj" fmla="val 25000"/>
              </a:avLst>
            </a:prstGeom>
            <a:blipFill rotWithShape="0">
              <a:blip r:embed="rId2">
                <a:alphaModFix amt="80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080200" y="633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PK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7924680" y="457200"/>
              <a:ext cx="952560" cy="800280"/>
              <a:chOff x="7924680" y="457200"/>
              <a:chExt cx="952560" cy="800280"/>
            </a:xfrm>
          </p:grpSpPr>
          <p:sp>
            <p:nvSpPr>
              <p:cNvPr id="63" name=""/>
              <p:cNvSpPr/>
              <p:nvPr/>
            </p:nvSpPr>
            <p:spPr>
              <a:xfrm flipV="1">
                <a:off x="8153280" y="685080"/>
                <a:ext cx="533520" cy="53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924680" y="457200"/>
                <a:ext cx="343080" cy="343080"/>
              </a:xfrm>
              <a:prstGeom prst="ellipse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29600" y="914400"/>
                <a:ext cx="343080" cy="3430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29600" y="91440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534520" y="457200"/>
                <a:ext cx="342720" cy="3430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534520" y="457200"/>
                <a:ext cx="304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924680" y="45720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333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kb.stanford.edu/biopax#datasourcename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pkb.stanford.edu/" TargetMode="External"/><Relationship Id="rId2" Type="http://schemas.openxmlformats.org/officeDocument/2006/relationships/hyperlink" Target="mailto:pathwaykb@lists.stanford.edu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athguide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way Knowledge Bas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ublic Repository for Searching Biological Pathway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120" y="51811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Nikesh Kotecha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, Kyle Bruck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, William Lu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and Nigam Shah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partment of Biomedical Informatics, Stanford University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mail: pathwaykb@lists.stanford.edu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352680" y="2514600"/>
            <a:ext cx="2133720" cy="2133720"/>
            <a:chOff x="3352680" y="2514600"/>
            <a:chExt cx="2133720" cy="2133720"/>
          </a:xfrm>
        </p:grpSpPr>
        <p:sp>
          <p:nvSpPr>
            <p:cNvPr id="117" name=""/>
            <p:cNvSpPr/>
            <p:nvPr/>
          </p:nvSpPr>
          <p:spPr>
            <a:xfrm>
              <a:off x="3352680" y="2514600"/>
              <a:ext cx="2133720" cy="2133720"/>
            </a:xfrm>
            <a:prstGeom prst="can">
              <a:avLst>
                <a:gd name="adj" fmla="val 25000"/>
              </a:avLst>
            </a:prstGeom>
            <a:blipFill rotWithShape="0">
              <a:blip r:embed="rId1">
                <a:alphaModFix amt="80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3702600" y="3193560"/>
              <a:ext cx="1456920" cy="1272600"/>
              <a:chOff x="3702600" y="3193560"/>
              <a:chExt cx="1456920" cy="1272600"/>
            </a:xfrm>
          </p:grpSpPr>
          <p:sp>
            <p:nvSpPr>
              <p:cNvPr id="119" name=""/>
              <p:cNvSpPr/>
              <p:nvPr/>
            </p:nvSpPr>
            <p:spPr>
              <a:xfrm flipV="1">
                <a:off x="4019040" y="3495960"/>
                <a:ext cx="823680" cy="66636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3702600" y="3193560"/>
                <a:ext cx="570240" cy="545400"/>
                <a:chOff x="3702600" y="3193560"/>
                <a:chExt cx="570240" cy="5454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702600" y="3193560"/>
                  <a:ext cx="570240" cy="545400"/>
                </a:xfrm>
                <a:prstGeom prst="ellipse">
                  <a:avLst/>
                </a:prstGeom>
                <a:solidFill>
                  <a:srgbClr val="99cc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28960" y="3314880"/>
                  <a:ext cx="316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589280" y="3193560"/>
                <a:ext cx="570240" cy="545400"/>
                <a:chOff x="4589280" y="3193560"/>
                <a:chExt cx="570240" cy="5454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589280" y="3193560"/>
                  <a:ext cx="570240" cy="545400"/>
                </a:xfrm>
                <a:prstGeom prst="ellipse">
                  <a:avLst/>
                </a:prstGeom>
                <a:solidFill>
                  <a:srgbClr val="ffff99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715640" y="3314880"/>
                  <a:ext cx="316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145760" y="3920760"/>
                <a:ext cx="570240" cy="545400"/>
                <a:chOff x="4145760" y="3920760"/>
                <a:chExt cx="570240" cy="545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145760" y="3920760"/>
                  <a:ext cx="570240" cy="545400"/>
                </a:xfrm>
                <a:prstGeom prst="ellipse">
                  <a:avLst/>
                </a:prstGeom>
                <a:solidFill>
                  <a:srgbClr val="ccffcc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272480" y="4042080"/>
                  <a:ext cx="316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9" name=""/>
          <p:cNvSpPr/>
          <p:nvPr/>
        </p:nvSpPr>
        <p:spPr>
          <a:xfrm>
            <a:off x="4267080" y="4952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3720" y="47242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pkb.stanford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e and navigate pathway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-4199" t="65548" r="0" b="0"/>
          <a:stretch/>
        </p:blipFill>
        <p:spPr>
          <a:xfrm>
            <a:off x="-304920" y="1832040"/>
            <a:ext cx="9144000" cy="4263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476760" y="647712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pkb.stanford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 queries enabled via advanced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17581" r="13283" b="16012"/>
          <a:stretch/>
        </p:blipFill>
        <p:spPr>
          <a:xfrm>
            <a:off x="380880" y="1676520"/>
            <a:ext cx="8458200" cy="5181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476760" y="647712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pkb.stanford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Under the Hoo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895480" y="1219320"/>
            <a:ext cx="4419720" cy="2590560"/>
            <a:chOff x="2895480" y="1219320"/>
            <a:chExt cx="4419720" cy="2590560"/>
          </a:xfrm>
        </p:grpSpPr>
        <p:sp>
          <p:nvSpPr>
            <p:cNvPr id="167" name=""/>
            <p:cNvSpPr/>
            <p:nvPr/>
          </p:nvSpPr>
          <p:spPr>
            <a:xfrm>
              <a:off x="3733920" y="1219320"/>
              <a:ext cx="3581280" cy="1904760"/>
            </a:xfrm>
            <a:prstGeom prst="cloudCallout">
              <a:avLst>
                <a:gd name="adj1" fmla="val -62898"/>
                <a:gd name="adj2" fmla="val 78000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95480" y="2971800"/>
              <a:ext cx="15242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1600200"/>
            <a:ext cx="2590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way Viewer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ika, Cytoscap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3276720"/>
            <a:ext cx="2971800" cy="368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Client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5943600"/>
            <a:ext cx="2971800" cy="368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F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943600" y="3962520"/>
            <a:ext cx="1093680" cy="1197000"/>
            <a:chOff x="5943600" y="3962520"/>
            <a:chExt cx="1093680" cy="1197000"/>
          </a:xfrm>
        </p:grpSpPr>
        <p:sp>
          <p:nvSpPr>
            <p:cNvPr id="174" name=""/>
            <p:cNvSpPr/>
            <p:nvPr/>
          </p:nvSpPr>
          <p:spPr>
            <a:xfrm>
              <a:off x="5943600" y="4016520"/>
              <a:ext cx="1093680" cy="1143000"/>
            </a:xfrm>
            <a:prstGeom prst="can">
              <a:avLst>
                <a:gd name="adj" fmla="val 25000"/>
              </a:avLst>
            </a:prstGeom>
            <a:blipFill rotWithShape="0">
              <a:blip r:embed="rId1">
                <a:alphaModFix amt="80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6104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PK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005520" y="4356360"/>
              <a:ext cx="951840" cy="799560"/>
              <a:chOff x="6005520" y="4356360"/>
              <a:chExt cx="951840" cy="799560"/>
            </a:xfrm>
          </p:grpSpPr>
          <p:sp>
            <p:nvSpPr>
              <p:cNvPr id="177" name=""/>
              <p:cNvSpPr/>
              <p:nvPr/>
            </p:nvSpPr>
            <p:spPr>
              <a:xfrm flipV="1">
                <a:off x="6233760" y="4584600"/>
                <a:ext cx="533160" cy="52992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05520" y="4356360"/>
                <a:ext cx="342720" cy="342720"/>
              </a:xfrm>
              <a:prstGeom prst="ellipse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310080" y="4813200"/>
                <a:ext cx="342720" cy="34272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10080" y="4813200"/>
                <a:ext cx="304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15000" y="4356360"/>
                <a:ext cx="342360" cy="3427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15000" y="4356360"/>
                <a:ext cx="30420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005520" y="4356360"/>
                <a:ext cx="304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304920" y="4648320"/>
            <a:ext cx="1599840" cy="1752480"/>
            <a:chOff x="304920" y="4648320"/>
            <a:chExt cx="1599840" cy="1752480"/>
          </a:xfrm>
        </p:grpSpPr>
        <p:sp>
          <p:nvSpPr>
            <p:cNvPr id="185" name=""/>
            <p:cNvSpPr/>
            <p:nvPr/>
          </p:nvSpPr>
          <p:spPr>
            <a:xfrm>
              <a:off x="304920" y="4952880"/>
              <a:ext cx="1295280" cy="14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0880" y="4876920"/>
              <a:ext cx="12956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" y="4800600"/>
              <a:ext cx="1295280" cy="14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09480" y="4648320"/>
              <a:ext cx="1295280" cy="1447560"/>
              <a:chOff x="609480" y="4648320"/>
              <a:chExt cx="1295280" cy="1447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09480" y="4648320"/>
                <a:ext cx="1295280" cy="144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5440" y="4724280"/>
                <a:ext cx="11430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ioPA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i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actom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ioCy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3276720" y="5257800"/>
            <a:ext cx="1218960" cy="10598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P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5715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5715000"/>
            <a:ext cx="12952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895480"/>
            <a:ext cx="2210040" cy="110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rch Path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PAX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895480" y="2438280"/>
            <a:ext cx="83844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733920"/>
            <a:ext cx="2819520" cy="761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191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2133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505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1520" y="6324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/>
          <p:nvPr/>
        </p:nvCxnSpPr>
        <p:spPr>
          <a:xfrm>
            <a:off x="7162560" y="4648320"/>
            <a:ext cx="1051560" cy="118764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2895480" y="342900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Query: List all reactions in P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447920"/>
            <a:ext cx="8534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lect distinct t,x,y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elect 'HUMAN' as t,x,y  from TABLE(SDO_RDF_MATCH('(?y rdf:type :biochemicalReaction) (?y :NAME ?x)', SDO_RDF_Models('human'), null,SDO_RDF_Aliases(SDO_RDF_Alias('','http://www.biopax.org/release/biopax-level2.owl#')),null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IO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elect 'YEAST' as t,x,y  from TABLE(SDO_RDF_MATCH('(?y rdf:type :biochemicalReaction) (?y :NAME ?x)', SDO_RDF_Models('yeast'), null,SDO_RDF_Aliases(SDO_RDF_Alias('','http://www.biopax.org/release/biopax-level2.owl#')),null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IO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elect 'ECOLI' as t,x,y  from TABLE(SDO_RDF_MATCH('(?y rdf:type :biochemicalReaction) (?y :NAME ?x)', SDO_RDF_Models('ecoli'), null,SDO_RDF_Aliases(SDO_RDF_Alias('','http://www.biopax.org/release/biopax-level2.owl#')),null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ORDER BY 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1752480"/>
            <a:ext cx="7772400" cy="445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ch species has its own RDF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Query across species via UNION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termine data source via U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ttp://pkb.stanford.edu/biopax#biocyc_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iochemicalReaction124086301HUMANRecruitment of elongation factors to form HIV-1 elongation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ttp://pkb.stanford.edu/biopax#reactome_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cruitment_of_elongation_factors_to_form_HIV_1_elongation_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new species and 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d new spec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reate TABLE for storing rdf dat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reate an RDF_MODEL for that speci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sert data as N-Tripl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d new data sour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btain BioPAX pathway dat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vert BioPAX OWL files into the triples format using JEN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pdate all unique identifiers to have a custom URI*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kb.stanford.edu/biopax#datasourcenam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pgrade biopax identifiers from level 1 to level 2*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sert data into tabl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KB Query Perform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04920" y="1981080"/>
          <a:ext cx="6781680" cy="1506600"/>
        </p:xfrm>
        <a:graphic>
          <a:graphicData uri="http://schemas.openxmlformats.org/drawingml/2006/table">
            <a:tbl>
              <a:tblPr/>
              <a:tblGrid>
                <a:gridCol w="1930320"/>
                <a:gridCol w="1272960"/>
                <a:gridCol w="1151280"/>
                <a:gridCol w="1153800"/>
                <a:gridCol w="1273320"/>
              </a:tblGrid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. co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of path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of re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of tri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7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8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31,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0" y="1523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ummary of data available in P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38242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ample query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6920" y="6375240"/>
            <a:ext cx="627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ueries run on a Dell PowerEdge 2800 w/ 4 GB RAM and Oracle 10.2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80880" y="4270320"/>
          <a:ext cx="7391520" cy="1825560"/>
        </p:xfrm>
        <a:graphic>
          <a:graphicData uri="http://schemas.openxmlformats.org/drawingml/2006/table">
            <a:tbl>
              <a:tblPr/>
              <a:tblGrid>
                <a:gridCol w="5827680"/>
                <a:gridCol w="15638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Qu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ime 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arch for pathway titles containing phospholip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nd all proteins with bcl1 in their name or synon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nd all pathways with protein bcl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ist all entities to the left or right of hydroxyanthrani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ain queries are easier with relational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82880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thway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182880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thwa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43200" y="304812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actio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6068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434340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tein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304812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actio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590920" y="37339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37339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724280" y="2209680"/>
          <a:ext cx="4267440" cy="1095480"/>
        </p:xfrm>
        <a:graphic>
          <a:graphicData uri="http://schemas.openxmlformats.org/drawingml/2006/table">
            <a:tbl>
              <a:tblPr/>
              <a:tblGrid>
                <a:gridCol w="1422360"/>
                <a:gridCol w="1422720"/>
                <a:gridCol w="142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38862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Que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iven protein E, find all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68720" y="344340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lation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600" y="51814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recte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way Knowledg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entralized resource for querying pathway information across data sources and speci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monstrates use of BioPAX and RDF for exchange and integration of pathway data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mita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oring data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only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as RDF graph structures limits query performanc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mport requires manipulation of namespac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Querying options and methods are based on SPARQL but do not currently support all the features specified in SPARQ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problem with pathways…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oPAX and data exchang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thway Knowledge Ba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uerying over multiple data sourc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ta import and query proce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clusion &amp; Next Step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 in PK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thway differences between data sourc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does the galactose metabolism differ b/w ecocyc and reactom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thway merg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erge information from the same pathways from different data sourc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thway consistency check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oPAX rules for testing pathway mode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KB Team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yle Bruck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lliam Lu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gam Shah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aniel Rubi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uss Altma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ostin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ational Center for Biomedical Ontologi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unding Sourc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anford Medical Informatic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ational Library of Medicin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ational Institute of Health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.  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kb.stanford.edu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thwaykb@lists.stanford.edu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ways convey biological pheno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772400" cy="4243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630840" y="620856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ndaraaj et. al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interpret non-standard pathway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705720" cy="399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752480" y="2057400"/>
            <a:ext cx="5715000" cy="4124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0" y="6415200"/>
            <a:ext cx="53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sulin signaling pathways – KEGG &amp; BioCar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with pathway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o many sources to investig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&gt;200 databases in the Pathway Resource Lis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athguide.org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thway diagrams are the primary way for consuming inform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n-standar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orporates a handful of genes and protei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fficult to compute ov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thway” representation is not easy to defi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ppropriate levels of abstrac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andard naming systems for molecul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ppropriate numbers of componen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PAX is an emerging standard for pathway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53053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1292400"/>
            <a:ext cx="7848720" cy="5357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602400" y="64008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ttp://www.biopax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PAX allows for creation of a central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oPAX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andardized representation of Pathway data in OW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vide method for exchange that promotes interoperability between known data source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8763120" cy="2065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52280" y="4038480"/>
            <a:ext cx="8077320" cy="3812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7150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We use BioPAX level 2 to integrate Kegg, BioCyc and React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800600" y="4572000"/>
            <a:ext cx="533520" cy="1295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10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way Knowledge Base (PK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5486400"/>
            <a:ext cx="7924680" cy="13240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frastructure to integrate pathway information from multiple sources into a central resourc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oPAX  and Oracle RDF mod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thods to query pathways in these databas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QL/SPARQ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web interface that allows users and other programs to query and access these pathway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SP/AJAX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pathways across data sources and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0" r="-3270" b="33452"/>
          <a:stretch/>
        </p:blipFill>
        <p:spPr>
          <a:xfrm>
            <a:off x="685800" y="1454040"/>
            <a:ext cx="5791320" cy="5265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476760" y="647712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pkb.stanford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49:18Z</dcterms:created>
  <dc:creator>Nikesh</dc:creator>
  <dc:description/>
  <dc:language>en-US</dc:language>
  <cp:lastModifiedBy>Nikesh</cp:lastModifiedBy>
  <dcterms:modified xsi:type="dcterms:W3CDTF">2006-11-09T19:43:07Z</dcterms:modified>
  <cp:revision>94</cp:revision>
  <dc:subject/>
  <dc:title>Bmi 212 presentation slides v1</dc:title>
</cp:coreProperties>
</file>